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FE62-706B-4086-8ABC-280FE655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2D82-4DDF-4217-86A6-8613DC0D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8A5C5-D160-4A90-B94B-C353A2DC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4CCBB-BF63-4B16-962F-40766045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66F96-9C46-433E-BC29-4CBE5EF0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4D812-05EB-4A31-9E2B-7ED75EDA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80E35-CF4B-4978-99AB-0FBD9A30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6626D-407C-45C3-AB0F-F7188407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C17F5-02BD-40F3-BBD4-01BF3DEF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D6994-0246-4810-B263-2D9AD386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C1293-F061-48E6-99D8-E913986FD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C0898-D8AB-405C-B0BE-A4AF79B56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6B02-7A0F-4105-BC2E-881EBCD2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B978F2-9187-4B3F-8F24-954C42B2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445AB-5241-40D2-A02E-1EDA36CB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7DB76-AEE3-40F1-87E4-4F1A200B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3C289-B78E-40D2-B650-E16AD832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75073-7CE0-47AB-80A4-4E387C58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798CE-C940-4E06-A6DE-70833ACE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733E9-8404-4248-AF1F-A963CF31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6B926-59D7-4E16-B891-A546568A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6E84AC-FF2E-4327-B1F7-B66805B7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9E42E-46B7-4BFA-A49B-44270FF4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08BB-462E-4394-893F-4A5F2D5F2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8F84E-D67B-4D2C-9F32-5429798F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9F253-71E1-4029-B437-E53E4CF3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DE144-14A7-40CD-BDA6-25039B93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5048E-385C-4260-9EB7-2A754AFB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6AEC6-4A1F-41F7-9EBF-612DA4C0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CBFA0-F79E-4D1C-860E-AF420228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D4302-DD84-4EB9-8E48-E4A37D38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FF50B-A48E-4AF3-BEE2-7C4326C9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6D52C-6874-4DBF-87ED-4D6B25B3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624AF-94AF-47B3-A631-DFAE95AD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3433-9EAA-413F-9767-7BD9F6A9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83A0D-FB0E-4EBF-9D5D-0621DD4D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EB683-A985-4655-9CF0-DB26F1DA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7D17C-58C3-4BF0-946C-D1B5CCB1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50273-A8E7-4DFE-B3DD-E39294C2E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95AB5E-C6A5-4A6E-80CA-AECDCBD8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5A91A-FFEB-4F03-94C9-906E9BBA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5EAF66-07E1-4675-9F48-B71DBE44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EB2138-348B-41D0-9D28-AA5E2433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ECB4E6-F70B-488F-A428-7F84D9FA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28330-B43E-4F72-945A-675FE3B0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3EDC-63B4-4D45-97E9-8DA60029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CED65-3077-4180-92D0-B1274EB1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574B67-1428-4071-858E-451970CB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3ACAB-098B-451A-97E5-3BA1C1AF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55138A-D5F3-4AF2-9F28-55DFD4A30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E7E53B-ACAC-46C6-8AA0-0709C42F1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6DAE0A-32E1-4435-86ED-C2CBBC81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F33E75-E4A7-4E33-B67F-BA07075F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8520C8-FC97-48F7-A1D2-336D62BD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DE1CEA-A7A5-470A-93A1-96D3604D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C9683F-E8C0-4608-A779-280C8249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9EF4-8AFF-40CF-9F05-4BEF233B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1B1E1D-3013-4F91-BCDE-B9D258BC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32AC2E-4D51-4817-BE53-D642AE06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B9171F-F4B6-4655-83A0-D932D5E3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E7CAA5-52E1-48FB-BB8E-9FBE6A8A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06A632-128B-494C-9331-6CA8F50F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3B4239-800A-4BAE-BE51-EB671E0CB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CCB7D0-17A5-4F36-8EB9-28AC7A25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6A27BA-5D55-41B3-805F-9B437061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C93BE8-BB9B-42C9-A0BC-62FF1F6A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AE16B9-1B25-466E-99E3-11559285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AD52-983B-4330-AA2F-BF9D4191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7E6C8C-413F-4550-A135-F6CC8920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219F5B-1A97-41B6-B591-8C8A5AA1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B5A829-DDDF-4F4D-8B98-A4300556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45C8A4-ABE4-4502-905A-8B166887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1EC2FF-3BAD-4323-B444-D7F9995D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3C5A6E-BCE0-43F6-95C4-4C0143A6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8FAF8B-DF42-46D2-9B33-3235955D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17FDBB-8C1B-4A16-921A-F239A23D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5259E0-3AC0-4338-A02A-2206CF0B2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074DF0-3578-4C0A-8A3A-A428F496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82CC-9252-44C7-BBB5-39D16CBE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C809C9-CA00-4C5B-B563-2E68E788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4111BC-FB7E-4210-B82E-375FCB2A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D0E07C-8FDD-4C34-A7EB-699CC69A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CCD565-86E8-473B-952C-AE16A5F7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592659-D9A2-4F31-86EC-B0756481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5A17BC-5894-464A-B479-D69F8634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4C7145-0517-454E-B860-E7F686F8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427603-0E51-42B0-9973-45802A8F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65A4E0-2885-4DCF-98F2-B0FCBB86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3D9CBD-1E80-4B97-896B-CE13A8E60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E1D6-B4D4-4C54-934A-BE34D213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515329-0F5B-43A2-9FBB-06B8E889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CEB030-8A48-449C-8484-337E745C2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4F9B6A-F864-49BC-BB20-8F002008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B854B5-BA66-4A56-844E-1780B818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1A7199-5699-48EC-A83A-B520211E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9E722A-5FA6-4E90-9463-EB3EFC08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8CDFD9-BEF6-4890-B64E-C9282BC2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2CB80D-BCB8-4266-8524-AD5A048C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84E0B5-D4D8-469E-A4B8-CF87DDDB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72D42F-821C-4F37-BB08-C9F022FF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7ECF-6DC4-4075-98CC-40E5B2A3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003505-18A1-4966-B2E6-CB065375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F27C0C-464E-48D5-AB0C-0C8FCD477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6CD622-C9C1-4376-9528-5B9774AD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B4AC53-CE8B-4CE7-B0C7-EA41D693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98102C-89E1-458E-8411-70127A74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D740E1-1378-470B-9A65-5B7B1DCA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4763EE-1B1C-4FCD-8D68-B15962C4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989116-FE3C-43AD-842C-2004CD7F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88D6FE-C426-4FEB-AA22-5EB99D45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91578D-99FB-4539-A7B7-2527FB77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1F2C-6D96-4053-A870-757D973C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2812-C841-40DA-933C-25179740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8631CC-C141-400A-8D19-F1A0A0B7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BAFFA8-A016-4134-ABAC-63FF2EFB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5E1D08-71A6-4E7B-B950-BA182BBA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7AC0AE-3226-42D6-A8C7-B3367391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B921DC-7BB5-4184-9312-493B94C90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C563A4-08C6-4ADC-96CC-ED97CF28B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CCC9D0-F51A-4E71-A083-4F961660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EAAE29-3677-4479-8084-EFE986EF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AD5BBB-011F-4793-9177-12B956F6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6463B0-B368-4661-B969-3E1C5F3B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83B2-1B6A-424B-81BF-D1E3F3E7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CE0109-204C-47EF-AA33-2E8ED0C5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0BC66C-7AD0-40AA-AA50-860DC5EB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12E685-57D6-44D5-9D3E-737F558B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D9608E-9E41-481F-BB4E-1E6E600C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3469FD-FAD9-4968-B3D2-656EE09D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8C10F6-9B31-44F7-B007-57E357A79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1B9FFF-419D-4C7E-A60B-EA0572408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F7BAB3-1D45-44F4-9750-6D67D95F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B2B36A-3DF9-4E18-8504-E1E82A27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8A73B6-6191-4C23-8F7B-5B3BD8E3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9B0B-253A-4BD1-9788-CF8A8D09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3FFB39-75DD-4F7C-90D6-D3E6E059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04C5BF-9347-423C-BAB5-3375FF52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6BBF75-7A74-4AEF-8E49-75197526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DDA262-8B7A-40C9-99CE-FFE2AD81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6C4081-711F-446C-BF4C-6284BC5F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30B160-D977-456D-8693-46D68BCA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A6D13D-75DD-43A9-AADC-63B80500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801A11-EFE2-4C99-8F7A-C4FD567B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B6AFFD-D08A-465C-8269-7FDE57E3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515F24-F150-4591-BA79-81678AF7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65EA-B870-4684-ABCC-1FAB1B303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ACE4FE-23DD-47AD-ACCE-06126B07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486B25-6D57-4B00-A552-B6FBD23B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98B308-5E6B-4B66-9368-4EBD1607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C15614-F232-469E-8366-7628A9C6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6CC1A4-2BD7-4670-912C-78F055EA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788123-1CFB-4F5D-881F-963E5092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F20DA5-4297-4D8A-A28A-1BE3821E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8E1FF7-9C51-4EAC-80B4-610ADF33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CA4ADB-8F97-443F-B9C1-CD223511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DF0EB7-52CD-43DA-9688-1243868F6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4E88-FB56-4AC6-9022-C7768EAF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6F6DE1-E8D6-401D-B096-6DCA087CA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15757C-AC68-4A70-A26B-20A8B4C4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BC4319-72BA-4F8D-957A-DA3DD0E0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2EAD0E-C4B7-4DC4-9DB9-4242D035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2B226B-63F7-40B9-AD13-16FC511D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351EA9-A01A-47FF-ABC1-8B7C7FA0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F68474-2B79-47A8-80D4-4EAD3654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9502E1-CAB5-406D-9223-D65B6A5E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434B20-AFF7-44FC-95AC-807392C0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C4FE1A-7AF4-402F-AA0F-F0D0381F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0EB94-12F2-4D0F-BE0D-7ED08A872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4ADD39-8CB4-4033-A3FB-2A6088AA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F67E90-E33B-4F63-81CF-EA814C832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2626C2-8C6A-40F2-911E-8C7AA3A8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64BE52-D7EB-46E3-BE1B-7BC02BCB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5746A3-27ED-4D5E-8E1F-8E805D5D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7BAA7D-CEF5-484C-94DB-10CB14C7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93B7EA-1844-4C07-A87D-53762282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2378FE-6BCA-48B9-B556-950A8555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40BB8E-9B9A-4A4F-8CD1-1405A87B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401CF7-1525-4191-804E-698F6DE0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9D901-5782-45B2-B96C-1D5B8CA3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8D0889-5603-49BB-81F8-68FA3731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FAF507-BFA3-4E58-8053-061FCFDF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F68100-E868-4808-A55B-4C8F849D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3B9040-DFEC-4102-AFE6-0B02BC360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50664E-B0F9-46DC-9805-E05F3FAE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1A96E8-5AC9-4BC9-A959-ECB0DCB5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A23328-2EC4-4886-BB9A-6D0FAB20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3F6C00-7028-4377-96BC-E8886E01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01BAB3-1FBF-4EA9-94CE-922946D2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F362AE-9163-4252-9C34-EFF9D3AD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1D2E8-EC8A-4598-A97E-BB898239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9C75D7-D24A-4835-A8F0-F2EA1DD7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3A412B-D15D-4ACF-A8BA-64CE1476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59BF49-F66D-43BA-AD86-A5B58766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A8831C-4046-4A45-A275-21CD48C2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9B3A4B-854C-400F-97C1-626FB176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64ACDA-92DA-4768-9C2E-4380AE087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5CD3CB-639A-4271-97DA-EB985E9F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A6E96-A75F-46FC-B939-B6119C44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77A38-CF2C-4C23-9AB5-77031A61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37E3-6FB1-4893-AD26-0CB2FFBC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8EE15-AB1D-400E-BAF8-4DA56F8C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EAF99-8A3F-47C3-B04F-B622FFFD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6D10F-6244-471D-8E37-A74E7606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09E4D-E80C-417A-BFD3-D5C1E8C6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94EDA-EB1E-44AB-A565-DF4DB6C3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55099-BFDC-440A-A6BB-744A78F69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099B4-8CD5-473A-BDB1-64CF54833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AEDB3-99D2-45D7-92D4-69530B47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68EB1-C923-4758-829D-8E67565E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2EEDC-D287-4E0A-A7B6-97DFF678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696F-0B28-44A7-AC2C-BAC9A9FD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6D772-95A3-4DAC-B9F8-C416FBAB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E0321-EC93-46E7-AF9C-919D5BA9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EC297-4E45-42B0-B538-804BEB6A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3A60C-6529-4716-8783-4AD0181A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04A2E-3F29-4513-91D6-19EBBB6B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8F986-30E5-41D6-BE60-A6929377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2C99F-ABEF-4FAC-89F1-729AEB0D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658B7-E075-4C56-8398-1A9F534C4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2A1C7-84DF-407C-A363-606FC0D4F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05FD1-E993-46C0-9382-129DF446D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DE87-1D8B-48C9-9A44-03111057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1E0CA-07EF-4E2C-8E76-8819B342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83311-2111-4971-866C-BECE9942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CFF3B-C5B6-49B6-B598-DB21647A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C5727-0808-485E-A85F-CBAEBFA7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FE272-B110-4EAB-8FA2-C426A9C5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58E10-D836-4654-BC10-61DA4CF6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6DB61-E0E4-43BC-9437-29841C70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9BF94-DF5C-4A94-AD76-3C0A5255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A05A0-14C1-4F92-97B7-21C92685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F95F2-9A34-4012-A474-FAACEAC4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8D7D-CC4A-4AE9-B888-6556D862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44F7A-A66C-453B-98DB-4A5A07552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DCABF-97F9-4497-8B9A-62C112FE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7AF28-844C-4CF1-9480-DF0EA604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60BEB-AA12-47F6-AFD8-6BCAA865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33816-93D1-41B8-BA97-C780AF08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B3BB0-10BB-4FB3-B6CE-FDD5901E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8F24A-FC11-4620-A82A-49CD33C5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3941C-51D7-4C4A-A9E8-FF369F54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682A5-AB57-4CB0-9DCD-4697B689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42E58-CFC0-420D-A96D-16EB2051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DD62-8C65-499F-A437-CA8C10A5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CB009-A9A4-47D7-90EF-85456686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52367-0347-4CCA-AE4F-8775B73F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051E3-31E4-4F3E-9A0E-DFBFEA66A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FAE2F-04FE-401F-A78F-47FFBDC3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745C8-607F-4E3A-9144-BC0A9375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B0D78-91EB-4501-B3DB-AD0E0F61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21807-3BFB-44F2-9E77-343EA2B7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DCE13-5A03-47EF-890F-8DFE855D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51D14-6BB1-4AB3-9511-4F844299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DBB78-6C6A-4C3E-B644-99CA5705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C068-46A6-42D9-9449-784F2AFD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DD14B-3C10-445E-A3A8-FCA85C62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22363-71FF-4A21-BD71-8F78745C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1B7F2-A7FA-4BBA-82C4-825C8408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3802E-D02A-477D-AF8D-85547A3E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29C8D-9399-427B-AD7A-66E80A6FC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524CC-28CC-4EF3-BD6F-78A8D892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5E61D-24E0-44EA-B21E-6CDFB6E1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45F0D-2B69-4273-A4B1-F80EED1C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9705A-11B2-4135-A9A4-69FB77C1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926F5-08FE-4757-9732-09C19348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93C4-8AF5-499F-9629-AA57B3DA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232F1-A8D3-4714-896E-C7F01F9E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1D31D-1379-46F2-8A3D-D118B65B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3F52D-4E2B-4901-8301-E014A48A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90567-790D-4073-B744-F0053C2D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259BB-0DC6-4BF9-A624-DAC1A815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445C4-3C9E-4824-91E4-CC5AEDF48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C1F12-01B8-49D1-A9F0-75489048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BA45F-9394-4E51-AC12-E013C74E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DE65B-DEC7-482E-B58A-2A38F0F9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DCB07-8CB6-4DD9-B0A1-654F0C68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7548-838E-4C15-AA4F-183EF34EFF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50C9-1368-4BF5-B89D-C2BEF933F8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C11F-185E-4FA3-821B-2E2EC4D766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5EDA-F421-41BA-9450-929860E79E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8E6A-49E5-437F-BECD-8BF253EBF2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1470-B293-4B41-9F80-60A8AA0C12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ED9E-A90B-4AC0-92F0-7B5651A663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1873-A81E-4969-B16C-FEBDED2872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1AB8-EF19-4AE9-AE41-B4C67DBEE5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C5E5-A827-4FD4-A390-633B699AF6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B99B-BF60-4BBB-85D4-E3A03494B7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08CB-050D-4331-9591-8B30AD9B75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CD57-6B0D-4A0E-8426-C03857C96E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5EA7-57F7-4D0C-84F4-DDB3FB69F6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769B-3143-48E3-AFC8-04E273303A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E848-0F21-43D7-B99D-B40DAF9FA1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00E5-C99C-4DF2-9B0D-7063E33402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2894-C82F-4858-B32A-B8A00FA1E2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DE70-7EAD-425B-89CD-3147358586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7A07-0888-48DD-9B0C-3880FBFD33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DB1A-A89C-4A4C-9C95-E9E9666F39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463C-0D71-4CDD-BA50-26CB38E28F0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0419-0C94-4441-884F-A8A8445F8C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3D9E-7CE5-491B-9D58-5D12B434C9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909B-649C-4C07-830D-C9CABF5DFF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1B48-CF54-4EC3-9C90-47638AA569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AAC8-DE18-486C-A5ED-F566D260DE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ED1E-BD98-4752-8F8E-4E56098FA0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A260-CBDD-40A2-AB01-2499B1C6FB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C2EF-3069-48ED-8F98-DF0ABA0159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5DF1-644C-4090-B611-CC52F8289C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8C7A-05EA-49B6-94D1-A50DAE5757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E8F7-6957-493C-9BE9-7D03275CAA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D2A5-7F0E-4B79-83AE-F66DDED6908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0005-3F07-4B4E-B512-FF2224E711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E997-A24D-4EA1-9550-2D12379707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CA07-7ACD-4671-B840-CB92C59310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C1C7-1A2B-468C-A37A-22F096CDB3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F92C-A454-4BF6-8F61-EF31A38369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78CA-5AC2-4C2F-AE67-59306A7DEB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2673-3071-444B-BF80-5572B6A0FE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799A-D7E1-4CBF-9D0C-87014BFA4E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176480" y="2471760"/>
            <a:ext cx="679104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500040" y="744480"/>
            <a:ext cx="8143920" cy="58960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1187280" y="2765520"/>
            <a:ext cx="5400720" cy="447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1116000" y="3429000"/>
            <a:ext cx="5400720" cy="447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4"/>
          <a:stretch/>
        </p:blipFill>
        <p:spPr>
          <a:xfrm>
            <a:off x="1116000" y="4019400"/>
            <a:ext cx="5400720" cy="447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5"/>
          <a:stretch/>
        </p:blipFill>
        <p:spPr>
          <a:xfrm>
            <a:off x="1042920" y="4724280"/>
            <a:ext cx="5400720" cy="4478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6"/>
          <a:stretch/>
        </p:blipFill>
        <p:spPr>
          <a:xfrm>
            <a:off x="1116000" y="5373720"/>
            <a:ext cx="7416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04840" y="1943280"/>
            <a:ext cx="8734320" cy="297180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1979640" y="3500280"/>
            <a:ext cx="1079640" cy="72072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7020000" y="3716280"/>
            <a:ext cx="115236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5148360" y="4365720"/>
            <a:ext cx="1152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图片 1" descr=""/>
          <p:cNvPicPr/>
          <p:nvPr/>
        </p:nvPicPr>
        <p:blipFill>
          <a:blip r:embed="rId1"/>
          <a:stretch/>
        </p:blipFill>
        <p:spPr>
          <a:xfrm>
            <a:off x="581040" y="1290600"/>
            <a:ext cx="7981920" cy="427680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2"/>
          <a:stretch/>
        </p:blipFill>
        <p:spPr>
          <a:xfrm>
            <a:off x="2987640" y="23400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3"/>
          <a:stretch/>
        </p:blipFill>
        <p:spPr>
          <a:xfrm>
            <a:off x="6718320" y="234936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4"/>
          <a:stretch/>
        </p:blipFill>
        <p:spPr>
          <a:xfrm>
            <a:off x="3160800" y="3213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5"/>
          <a:stretch/>
        </p:blipFill>
        <p:spPr>
          <a:xfrm>
            <a:off x="7107120" y="31989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6"/>
          <a:stretch/>
        </p:blipFill>
        <p:spPr>
          <a:xfrm>
            <a:off x="3564000" y="40910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7"/>
          <a:stretch/>
        </p:blipFill>
        <p:spPr>
          <a:xfrm>
            <a:off x="3578400" y="4941720"/>
            <a:ext cx="43164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547560" y="1481040"/>
            <a:ext cx="8048880" cy="389592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2"/>
          <a:stretch/>
        </p:blipFill>
        <p:spPr>
          <a:xfrm>
            <a:off x="4643280" y="2781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3"/>
          <a:stretch/>
        </p:blipFill>
        <p:spPr>
          <a:xfrm>
            <a:off x="4284720" y="3500280"/>
            <a:ext cx="115092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4"/>
          <a:stretch/>
        </p:blipFill>
        <p:spPr>
          <a:xfrm>
            <a:off x="4356000" y="4149720"/>
            <a:ext cx="115092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5"/>
          <a:stretch/>
        </p:blipFill>
        <p:spPr>
          <a:xfrm>
            <a:off x="4643280" y="4797360"/>
            <a:ext cx="1150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1" descr=""/>
          <p:cNvPicPr/>
          <p:nvPr/>
        </p:nvPicPr>
        <p:blipFill>
          <a:blip r:embed="rId1"/>
          <a:stretch/>
        </p:blipFill>
        <p:spPr>
          <a:xfrm>
            <a:off x="243000" y="701640"/>
            <a:ext cx="8658000" cy="598176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2"/>
          <a:stretch/>
        </p:blipFill>
        <p:spPr>
          <a:xfrm>
            <a:off x="7885080" y="1557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3"/>
          <a:stretch/>
        </p:blipFill>
        <p:spPr>
          <a:xfrm>
            <a:off x="7812000" y="2205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4"/>
          <a:stretch/>
        </p:blipFill>
        <p:spPr>
          <a:xfrm>
            <a:off x="7885080" y="3500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5"/>
          <a:stretch/>
        </p:blipFill>
        <p:spPr>
          <a:xfrm>
            <a:off x="7885080" y="4149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6"/>
          <a:stretch/>
        </p:blipFill>
        <p:spPr>
          <a:xfrm>
            <a:off x="7885080" y="4797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7"/>
          <a:stretch/>
        </p:blipFill>
        <p:spPr>
          <a:xfrm>
            <a:off x="7812000" y="613728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223920" y="819000"/>
            <a:ext cx="8696160" cy="52200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826920" y="3645000"/>
            <a:ext cx="4105440" cy="447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684360" y="4292640"/>
            <a:ext cx="410508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4"/>
          <a:stretch/>
        </p:blipFill>
        <p:spPr>
          <a:xfrm>
            <a:off x="684360" y="4941720"/>
            <a:ext cx="813564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1" descr=""/>
          <p:cNvPicPr/>
          <p:nvPr/>
        </p:nvPicPr>
        <p:blipFill>
          <a:blip r:embed="rId1"/>
          <a:stretch/>
        </p:blipFill>
        <p:spPr>
          <a:xfrm>
            <a:off x="119160" y="716040"/>
            <a:ext cx="8905680" cy="60386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900000" y="2954160"/>
            <a:ext cx="360072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826920" y="3573360"/>
            <a:ext cx="360072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4"/>
          <a:stretch/>
        </p:blipFill>
        <p:spPr>
          <a:xfrm>
            <a:off x="826920" y="4221000"/>
            <a:ext cx="360072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5"/>
          <a:stretch/>
        </p:blipFill>
        <p:spPr>
          <a:xfrm>
            <a:off x="900000" y="4927680"/>
            <a:ext cx="388800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142920" y="785880"/>
            <a:ext cx="88581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1" descr=""/>
          <p:cNvPicPr/>
          <p:nvPr/>
        </p:nvPicPr>
        <p:blipFill>
          <a:blip r:embed="rId1"/>
          <a:stretch/>
        </p:blipFill>
        <p:spPr>
          <a:xfrm>
            <a:off x="590400" y="1467000"/>
            <a:ext cx="7963200" cy="39240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1042920" y="2781360"/>
            <a:ext cx="403380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1042920" y="3500280"/>
            <a:ext cx="403380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4"/>
          <a:stretch/>
        </p:blipFill>
        <p:spPr>
          <a:xfrm>
            <a:off x="1116000" y="4149720"/>
            <a:ext cx="403380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5"/>
          <a:stretch/>
        </p:blipFill>
        <p:spPr>
          <a:xfrm>
            <a:off x="1187280" y="4797360"/>
            <a:ext cx="40341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57:34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